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8E6-A682-41D6-B02E-1C037537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BF7-F4AC-4B1A-89AC-C32B129F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377-F06D-4D34-B3D4-10C26B0C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4D8-5106-4C6D-B8C8-B5CC72C0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C27-6585-49A5-B1B6-48FD0D92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3E2-B89E-472A-9184-0D3F0BA5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869-DDC7-4A40-80E7-746A2CA4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8D1-E75C-45F8-92B2-D6332119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5AE-DC94-454E-8FD5-CCDC2B77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79F-AF57-4B49-8F42-97BE42EC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EC5-0FBF-4B52-86AA-CFA17AF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AD2-3938-4FC1-8C2A-E7CA70C7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C2FC-248E-4EB3-9FAE-399C6DEEB67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curva1.bmp"/>
          <p:cNvPicPr/>
          <p:nvPr/>
        </p:nvPicPr>
        <p:blipFill>
          <a:blip r:embed="rId1"/>
          <a:stretch/>
        </p:blipFill>
        <p:spPr>
          <a:xfrm>
            <a:off x="3402000" y="2071800"/>
            <a:ext cx="5742000" cy="2500200"/>
          </a:xfrm>
          <a:prstGeom prst="rect">
            <a:avLst/>
          </a:prstGeom>
          <a:ln w="0">
            <a:noFill/>
          </a:ln>
        </p:spPr>
      </p:pic>
      <p:sp>
        <p:nvSpPr>
          <p:cNvPr id="42" name="CasellaDiTesto 4"/>
          <p:cNvSpPr/>
          <p:nvPr/>
        </p:nvSpPr>
        <p:spPr>
          <a:xfrm>
            <a:off x="714240" y="50004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RIVAZIONE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5"/>
          <p:cNvSpPr/>
          <p:nvPr/>
        </p:nvSpPr>
        <p:spPr>
          <a:xfrm>
            <a:off x="500040" y="2286000"/>
            <a:ext cx="364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finiamo nel piano x, y una curva continua, che rappresenta una funzione analiticamente non definibile o non facilmente definibile (altrimenti si potrebbe optare per la derivata anali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6"/>
          <p:cNvSpPr/>
          <p:nvPr/>
        </p:nvSpPr>
        <p:spPr>
          <a:xfrm>
            <a:off x="428760" y="107172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derivazione grafica consente di determinare, in maniera puramente grafica, la derivata di una curva assegnata, purchè siano rispettate le condizioni caratteristiche di derivabilità (continuità, esistenza del limi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sellaDiTesto 7"/>
          <p:cNvSpPr/>
          <p:nvPr/>
        </p:nvSpPr>
        <p:spPr>
          <a:xfrm>
            <a:off x="500040" y="428616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 vuole andare a determinare la sua derivata pr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condizione non è rara: si pensi a quante volte apparecchiature di controllo restituiscono come risultato una curva analiticamente non definibil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erivdef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2297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0" y="3141720"/>
            <a:ext cx="9144000" cy="45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scala dell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cm/h] e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cala dell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cm/(km/h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ndo le scale è possibile stabilire il rapporto tra gli gli elementi grafici e gli elementi reali (fis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x=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     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y=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Gm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/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vv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=Sx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Gm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=Sy 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e sostituendo nella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0"/>
            <a:ext cx="450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scrizione di un fenomeno f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maginiamo che la curva in figura rappresenti un qualsiasi fenomeno fisico come ad esempio la velocità  di un veicolo nel tempo quindi avremo sull’ass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 tempi (h) e sull’asse dell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le velocità (km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conseguenza la rappresentazione grafica del fenomeno è fatta ricorrendo a 2 sc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7"/>
          <p:cNvSpPr/>
          <p:nvPr/>
        </p:nvSpPr>
        <p:spPr>
          <a:xfrm>
            <a:off x="428760" y="5857920"/>
            <a:ext cx="8429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KB’ = 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Gm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Δ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/ p= 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m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y Δ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Sx =  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m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Δ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* Sy Sx /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Integrale grafico                = integrale analitico  *   scala di inte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CasellaDiTesto 4"/>
          <p:cNvSpPr/>
          <p:nvPr/>
        </p:nvSpPr>
        <p:spPr>
          <a:xfrm>
            <a:off x="214200" y="214200"/>
            <a:ext cx="3500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si può verificare che poi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 = [cm] distanza p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y = [cm/km/h] scala velo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x = [cm/h] scala 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ySx/p = [cm/km] scala di integrazione, nello specifico scala di lunghez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termine KB’ rappresenta, in opportuna scala, lo spazio perco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tegrdef"/>
          <p:cNvPicPr/>
          <p:nvPr/>
        </p:nvPicPr>
        <p:blipFill>
          <a:blip r:embed="rId1"/>
          <a:stretch/>
        </p:blipFill>
        <p:spPr>
          <a:xfrm>
            <a:off x="3833640" y="0"/>
            <a:ext cx="5310360" cy="2500200"/>
          </a:xfrm>
          <a:prstGeom prst="rect">
            <a:avLst/>
          </a:prstGeom>
          <a:ln w="0">
            <a:noFill/>
          </a:ln>
        </p:spPr>
      </p:pic>
      <p:sp>
        <p:nvSpPr>
          <p:cNvPr id="73" name="CasellaDiTesto 6"/>
          <p:cNvSpPr/>
          <p:nvPr/>
        </p:nvSpPr>
        <p:spPr>
          <a:xfrm>
            <a:off x="4143240" y="3786120"/>
            <a:ext cx="44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 notare che per il secondo tratto si parte da K, poiché l’integrale è una sommatori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solobmw.com/doc/news/galleria/4_1_Coppia-e-potenza-M3CSL.jpg"/>
          <p:cNvPicPr/>
          <p:nvPr/>
        </p:nvPicPr>
        <p:blipFill>
          <a:blip r:embed="rId1"/>
          <a:stretch/>
        </p:blipFill>
        <p:spPr>
          <a:xfrm>
            <a:off x="3979800" y="571680"/>
            <a:ext cx="5164200" cy="628632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6"/>
          <p:cNvSpPr/>
          <p:nvPr/>
        </p:nvSpPr>
        <p:spPr>
          <a:xfrm>
            <a:off x="571680" y="285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e figure curve di coppia e di potenza (l’una funzione derivata dell’altra) il rapporto tra C e P nelle 2 immagini è funzione della distanza polare scelta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http://www.motociclismo.it/edisport/moto/gallery.nsf/HFoto/TriumphDaytonaTriple67526FotoGrande/$File/26.jpg"/>
          <p:cNvPicPr/>
          <p:nvPr/>
        </p:nvPicPr>
        <p:blipFill>
          <a:blip r:embed="rId2"/>
          <a:stretch/>
        </p:blipFill>
        <p:spPr>
          <a:xfrm>
            <a:off x="0" y="1643040"/>
            <a:ext cx="41432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erivdef"/>
          <p:cNvPicPr/>
          <p:nvPr/>
        </p:nvPicPr>
        <p:blipFill>
          <a:blip r:embed="rId1"/>
          <a:stretch/>
        </p:blipFill>
        <p:spPr>
          <a:xfrm>
            <a:off x="1403280" y="0"/>
            <a:ext cx="6588360" cy="3112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755640" y="3500280"/>
            <a:ext cx="7561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ddividiamo la proiezione della curva assegnata in tante parti uguali, e proiettiamo i punti del generico intervallo AB lungo l’asse delle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racciamo un segmento che unisce A e B e scelto un punto P a distanza p dall’origine degli assi tracciamo la parallela ad AB sino ad incontrare l’asse delle y in 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triangoli POH e ACB sono simili poiché hanno P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∕ </a:t>
            </a:r>
            <a:r>
              <a:rPr b="1" lang="it-IT" sz="1800" spc="-1" strike="noStrike">
                <a:solidFill>
                  <a:srgbClr val="000000"/>
                </a:solidFill>
                <a:latin typeface="Agency FB"/>
                <a:ea typeface="Arial"/>
              </a:rPr>
              <a:t>∕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C, H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∕ ∕ BC e gli angoli in P ed in A uguali per costruzion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erivdef"/>
          <p:cNvPicPr/>
          <p:nvPr/>
        </p:nvPicPr>
        <p:blipFill>
          <a:blip r:embed="rId1"/>
          <a:stretch/>
        </p:blipFill>
        <p:spPr>
          <a:xfrm>
            <a:off x="1403280" y="0"/>
            <a:ext cx="6588360" cy="3112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95280" y="3500280"/>
            <a:ext cx="8137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a se proiettiamo OH sul punto medio M tra A’ e B’, otterremo KM=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conseguenza per la similitudine dei triangoli otter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O / PO = BC / A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poiché KM = HO possiamo scr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KM = HO = OP * BC / AC = p BC / A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erivdef"/>
          <p:cNvPicPr/>
          <p:nvPr/>
        </p:nvPicPr>
        <p:blipFill>
          <a:blip r:embed="rId1"/>
          <a:stretch/>
        </p:blipFill>
        <p:spPr>
          <a:xfrm>
            <a:off x="1403280" y="0"/>
            <a:ext cx="6588360" cy="3112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539640" y="3500280"/>
            <a:ext cx="7993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consideriamo intervalli sufficientemente piccoli è possibile considerare l’arco AB = al segmento AB e di conseguenza possiamo considerare AC 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x e BC 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y, incrementi elementari fin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 conseguenza è possibile scrivere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KM = p BC / AC = p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y /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x 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pertanto KM rappresenta, a meno del valore di p, il valore della derivata, ovvero il limite del rapporto incremental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y /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erivdef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2297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0" y="3141720"/>
            <a:ext cx="9144000" cy="45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scala dell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cm/h] e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cala dell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cm/k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ndo le scale è possibile stabilire il rapporto tra gli gli incrementi grafici e gli incrementi reali (fis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x=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     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y=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vv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=Sx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=Sy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e sostituendo nella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0"/>
            <a:ext cx="450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scrizione di un fenomeno f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maginiamo che la curva in figura rappresenti un qualsiasi fenomeno fisico come ad esempio lo spazio percorso nel tempo quindi avremo sull’ass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 tempi (h) e sull’asse dell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le distanze (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conseguenza la rappresentazione grafica del fenomeno è fatta ricorrendo a 2 sc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7"/>
          <p:cNvSpPr/>
          <p:nvPr/>
        </p:nvSpPr>
        <p:spPr>
          <a:xfrm>
            <a:off x="428760" y="5857920"/>
            <a:ext cx="8429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KM =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 Δ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/Δ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= p Δ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y/ Δ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Sx =  Δy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/ Δx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* p Sy/ 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erivata grafica                       = derivata analitica  *   scala di deri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erivdef"/>
          <p:cNvPicPr/>
          <p:nvPr/>
        </p:nvPicPr>
        <p:blipFill>
          <a:blip r:embed="rId1"/>
          <a:stretch/>
        </p:blipFill>
        <p:spPr>
          <a:xfrm>
            <a:off x="4284720" y="1000080"/>
            <a:ext cx="4859280" cy="229716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4"/>
          <p:cNvSpPr/>
          <p:nvPr/>
        </p:nvSpPr>
        <p:spPr>
          <a:xfrm>
            <a:off x="357120" y="285840"/>
            <a:ext cx="3786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si può verificare che poi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 = [cm] distanza p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y = [cm/km] scala lunghez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x = [cm/h] scala 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 Sy/Sx = [cm/km/h] scala di derivazione, nella fattispecie di veloci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termine KM rappresenta, in opportuna scala, una velo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magine 3" descr="curva1.bmp"/>
          <p:cNvPicPr/>
          <p:nvPr/>
        </p:nvPicPr>
        <p:blipFill>
          <a:blip r:embed="rId1"/>
          <a:stretch/>
        </p:blipFill>
        <p:spPr>
          <a:xfrm>
            <a:off x="3402000" y="2071800"/>
            <a:ext cx="5742000" cy="2500200"/>
          </a:xfrm>
          <a:prstGeom prst="rect">
            <a:avLst/>
          </a:prstGeom>
          <a:ln w="0">
            <a:noFill/>
          </a:ln>
        </p:spPr>
      </p:pic>
      <p:sp>
        <p:nvSpPr>
          <p:cNvPr id="59" name="CasellaDiTesto 4"/>
          <p:cNvSpPr/>
          <p:nvPr/>
        </p:nvSpPr>
        <p:spPr>
          <a:xfrm>
            <a:off x="714240" y="50004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GRAZIONE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5"/>
          <p:cNvSpPr/>
          <p:nvPr/>
        </p:nvSpPr>
        <p:spPr>
          <a:xfrm>
            <a:off x="500040" y="2071800"/>
            <a:ext cx="364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finiamo nel piano x, y una curva continua, che rappresenta una funzione analiticamente non definibile o non facilmente definibile (altrimenti si potrebbe optare per l’integrazione anali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sellaDiTesto 6"/>
          <p:cNvSpPr/>
          <p:nvPr/>
        </p:nvSpPr>
        <p:spPr>
          <a:xfrm>
            <a:off x="428760" y="107172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alogamente si analizzi l’operazione di integrazione graf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sellaDiTesto 7"/>
          <p:cNvSpPr/>
          <p:nvPr/>
        </p:nvSpPr>
        <p:spPr>
          <a:xfrm>
            <a:off x="500040" y="457200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 vuole andare a determinare il suo integr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ntegrdef"/>
          <p:cNvPicPr/>
          <p:nvPr/>
        </p:nvPicPr>
        <p:blipFill>
          <a:blip r:embed="rId1"/>
          <a:stretch/>
        </p:blipFill>
        <p:spPr>
          <a:xfrm>
            <a:off x="1714680" y="0"/>
            <a:ext cx="5765760" cy="2714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714240" y="3071880"/>
            <a:ext cx="7561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ddividiamo la proezione della curva assegnata in tante parti uguali, e proiettiamo i punti del generico intervallo AB lungo l’asse delle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terminiamo il punto medio M’ nell’intervallo A’B’ e tracciamo un segmento che unisce M all’asse delle y (H) e, scelto un punto P a distanza p dall’origine degli assi, tracciamo il segmento che unisce P con 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l punto A’ tracciamo la parallela a PH sino ad incontrare il tratto BB’ (K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triangoli POH e A’B’K sono simili poiché hanno P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∕ </a:t>
            </a:r>
            <a:r>
              <a:rPr b="1" lang="it-IT" sz="1800" spc="-1" strike="noStrike">
                <a:solidFill>
                  <a:srgbClr val="000000"/>
                </a:solidFill>
                <a:latin typeface="Agency FB"/>
                <a:ea typeface="Arial"/>
              </a:rPr>
              <a:t>∕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’B’, H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∕ ∕ B’K e gli angoli in P ed in A’ uguali per costruzion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395280" y="3500280"/>
            <a:ext cx="82486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ssiamo scr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KB’ = HO A’B’ / OP = MM’  A’B’  / OP = y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x / p 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poiché y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x = area sottesa dal rettangoloide A’ABB’ , KB’ rappresenta (è proporzionale), a meno del valore di p, l’integrale grafico della fun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integrdef"/>
          <p:cNvPicPr/>
          <p:nvPr/>
        </p:nvPicPr>
        <p:blipFill>
          <a:blip r:embed="rId1"/>
          <a:stretch/>
        </p:blipFill>
        <p:spPr>
          <a:xfrm>
            <a:off x="1714680" y="0"/>
            <a:ext cx="57657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7:05:33Z</dcterms:created>
  <dc:creator>user</dc:creator>
  <dc:description/>
  <dc:language>en-US</dc:language>
  <cp:lastModifiedBy>Segreteria IPMM07</cp:lastModifiedBy>
  <dcterms:modified xsi:type="dcterms:W3CDTF">2008-05-27T09:43:00Z</dcterms:modified>
  <cp:revision>15</cp:revision>
  <dc:subject/>
  <dc:title>Diapositiva 1</dc:title>
</cp:coreProperties>
</file>